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E78-DD07-4442-865D-2B628806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199-E114-4BE4-A7AA-2255D2F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48E-7D5D-4CA4-945C-353AA2E1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88D-01A7-4791-BAA9-E2C2D30B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F3B-1768-45E1-9455-C2C17E7E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83C-859A-4CEB-88EE-BA4D32F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02B-DCF3-4F01-A2F1-25590040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9FE-9768-4E9B-8881-EE368263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38A-1D17-414A-B69E-6CD4F80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374-8D42-44D6-851A-4FA86A0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1B0-4819-40F6-A385-C2AC50B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4AF-8E01-4638-BDBE-DD02FB3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77EE-F4BA-4F04-A3DF-EB7B6CBB1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couple used up all their money to seek their 5-year-old son, who got lost month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 up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完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筋疲力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 have used up all the c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diers were used up after the long ba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２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ly later that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本句为强调句，原句式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强调句的结构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t is / was … that / who 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 that/who saw a film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主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 film that I saw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宾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ast night that I saw a film in the Youth Palace 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时间状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n the Youth Palace that I saw a film last night.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地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because he mother was ill that she didn’t go with u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原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…only by discovering what we do best can we hope to reach our goals and truly make a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倒装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正常语序应该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ope to reach our goals and truly make a difference by discovering what we do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倒装的目的是为了加强语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hen did I realize its impi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this way can we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when people lose freedom do they know its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13:32Z</dcterms:modified>
  <cp:revision>2</cp:revision>
  <dc:subject/>
  <dc:title>PowerPoint Presentation</dc:title>
</cp:coreProperties>
</file>